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D9E-B5EA-42F7-A1F2-411CC31F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523-78E4-40D5-9F4D-235F96C0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19B-BCAF-48B7-BF4B-F0201FFF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E8D-64A3-40AF-9FED-AB2ACF7F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125-052E-407E-AC84-A7D6101C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3E5-D2C6-4D47-B60E-79F2AEBE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ECD-DC04-41BF-AB55-85EAA58A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B41-A34E-4342-AE2F-A47C4AEC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908-0BA5-4855-8A06-C02F3572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06C-3941-43A3-8183-A01D6FD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F9A-7CCE-4E70-BB52-009BA90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144-50FB-42CB-997A-061A2D0B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5907-5B95-4A79-9673-BFFCD3EE55E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93560"/>
            <a:ext cx="9102600" cy="5934600"/>
            <a:chOff x="0" y="493560"/>
            <a:chExt cx="9102600" cy="5934600"/>
          </a:xfrm>
        </p:grpSpPr>
        <p:grpSp>
          <p:nvGrpSpPr>
            <p:cNvPr id="42" name=""/>
            <p:cNvGrpSpPr/>
            <p:nvPr/>
          </p:nvGrpSpPr>
          <p:grpSpPr>
            <a:xfrm>
              <a:off x="0" y="1316160"/>
              <a:ext cx="9102600" cy="3147480"/>
              <a:chOff x="0" y="1316160"/>
              <a:chExt cx="9102600" cy="3147480"/>
            </a:xfrm>
          </p:grpSpPr>
          <p:sp>
            <p:nvSpPr>
              <p:cNvPr id="43" name=""/>
              <p:cNvSpPr/>
              <p:nvPr/>
            </p:nvSpPr>
            <p:spPr>
              <a:xfrm flipV="1">
                <a:off x="4592520" y="2052720"/>
                <a:ext cx="0" cy="16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V="1">
                <a:off x="4487760" y="2064960"/>
                <a:ext cx="0" cy="16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1920" y="3697200"/>
                <a:ext cx="901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46440" y="1316160"/>
                <a:ext cx="183348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JAL ESPES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(arena + lam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4268880" y="1911240"/>
                <a:ext cx="560160" cy="227160"/>
                <a:chOff x="4268880" y="1911240"/>
                <a:chExt cx="560160" cy="227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359240" y="1911240"/>
                  <a:ext cx="371520" cy="5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V="1">
                  <a:off x="4484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 flipV="1">
                  <a:off x="4466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>
                  <a:off x="4268880" y="1943280"/>
                  <a:ext cx="79200" cy="1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734000" y="1935000"/>
                  <a:ext cx="9504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8462880" y="3562200"/>
                <a:ext cx="373320" cy="141480"/>
                <a:chOff x="8462880" y="3562200"/>
                <a:chExt cx="373320" cy="1414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8651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651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559720" y="356220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8669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86184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>
                  <a:off x="8566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>
                  <a:off x="8513280" y="3695760"/>
                  <a:ext cx="2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8469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721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77248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flipV="1">
                  <a:off x="8829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46288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485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58348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531280" y="359100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566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588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7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623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629560" y="367200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508960" y="363528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526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58360" y="361476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75016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715240" y="3635280"/>
                  <a:ext cx="241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721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675640" y="359424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715240" y="35989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739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612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629560" y="3591000"/>
                  <a:ext cx="3348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669520" y="3567240"/>
                  <a:ext cx="4104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67564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0" y="2755800"/>
                <a:ext cx="131616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86800" y="2739960"/>
                <a:ext cx="131580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168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479760" y="3943440"/>
                <a:ext cx="214632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RESIDUOS SÓLI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COMPLE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94320" y="2125800"/>
                <a:ext cx="3863880" cy="15699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86400" y="2370240"/>
                <a:ext cx="355104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94320" y="2720880"/>
                <a:ext cx="3078000" cy="9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4320" y="3048120"/>
                <a:ext cx="236232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02240" y="3336840"/>
                <a:ext cx="140976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24960" y="2127240"/>
                <a:ext cx="3863880" cy="15699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926640" y="2371680"/>
                <a:ext cx="355140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402920" y="2722680"/>
                <a:ext cx="3078360" cy="9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117520" y="3049560"/>
                <a:ext cx="236196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3070080" y="3338640"/>
                <a:ext cx="140940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246240" y="3562200"/>
                <a:ext cx="372960" cy="141480"/>
                <a:chOff x="246240" y="3562200"/>
                <a:chExt cx="372960" cy="1414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4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34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080" y="3562200"/>
                  <a:ext cx="1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452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401400" y="3695760"/>
                  <a:ext cx="21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349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29700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252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4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5584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612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246240" y="3695760"/>
                  <a:ext cx="612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8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684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14280" y="359100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9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1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0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6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2920" y="367200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91960" y="3635280"/>
                  <a:ext cx="3996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9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41360" y="361476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3352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8600" y="363528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4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59000" y="35942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98600" y="359892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2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95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12920" y="3591000"/>
                  <a:ext cx="3312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52520" y="3567240"/>
                  <a:ext cx="414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900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V="1">
                <a:off x="4810320" y="3116160"/>
                <a:ext cx="46332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3740040" y="3153960"/>
                <a:ext cx="516240" cy="82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600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702480" y="3404520"/>
                <a:ext cx="273600" cy="276480"/>
                <a:chOff x="6702480" y="3404520"/>
                <a:chExt cx="273600" cy="276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702480" y="341640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710040" y="34045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206800" y="3391560"/>
                <a:ext cx="273240" cy="276480"/>
                <a:chOff x="2206800" y="3391560"/>
                <a:chExt cx="273240" cy="276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206800" y="3403440"/>
                  <a:ext cx="253800" cy="25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214000" y="3391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24440" y="2680560"/>
                <a:ext cx="273600" cy="276480"/>
                <a:chOff x="4924440" y="2680560"/>
                <a:chExt cx="273600" cy="276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924440" y="269244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3200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08520" y="2680560"/>
                <a:ext cx="273240" cy="276480"/>
                <a:chOff x="3908520" y="2680560"/>
                <a:chExt cx="273240" cy="276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08520" y="2692440"/>
                  <a:ext cx="25380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572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961200" y="493560"/>
              <a:ext cx="7476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nexo No Norm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ámina 1.   Método Constructivo : Concentración de Sólidos (TTD)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800" y="6151680"/>
              <a:ext cx="21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33cc"/>
                  </a:solidFill>
                  <a:latin typeface="Arial"/>
                </a:rPr>
                <a:t>* Thickened Tailings Dis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245040" y="4668840"/>
              <a:ext cx="3073320" cy="1491840"/>
              <a:chOff x="3245040" y="4668840"/>
              <a:chExt cx="3073320" cy="1491840"/>
            </a:xfrm>
          </p:grpSpPr>
          <p:sp>
            <p:nvSpPr>
              <p:cNvPr id="175" name=""/>
              <p:cNvSpPr/>
              <p:nvPr/>
            </p:nvSpPr>
            <p:spPr>
              <a:xfrm>
                <a:off x="3465000" y="4719600"/>
                <a:ext cx="200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LEY:     k      &lt;   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126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540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19560" y="4668840"/>
                <a:ext cx="2401920" cy="45720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45040" y="56008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52240" y="5589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45040" y="58960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52240" y="58842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2560" y="5321160"/>
                <a:ext cx="3025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k    =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  COEFICIENTE DE PERMEABILIDA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75160" y="5626080"/>
                <a:ext cx="869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F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74800" y="5946840"/>
                <a:ext cx="1209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GRUES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237960" y="6531120"/>
            <a:ext cx="69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NOTA: También pueden transportarse estratégicamente los jales espesados por las laderas natu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2120" y="674640"/>
            <a:ext cx="5104080" cy="6189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95800" y="684360"/>
            <a:ext cx="488808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1440" y="855720"/>
            <a:ext cx="3900600" cy="5172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7760" y="692280"/>
            <a:ext cx="38433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681120"/>
            <a:ext cx="3970080" cy="5518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24520" y="870120"/>
            <a:ext cx="37749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7840" y="314280"/>
            <a:ext cx="3900240" cy="5218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03800" y="816120"/>
            <a:ext cx="34830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1:30:56Z</dcterms:created>
  <dc:creator>RAUL VICENTE OROZCO ESCOTO</dc:creator>
  <dc:description/>
  <dc:language>en-US</dc:language>
  <cp:lastModifiedBy>Monica Balsas</cp:lastModifiedBy>
  <cp:lastPrinted>1999-10-19T00:54:09Z</cp:lastPrinted>
  <dcterms:modified xsi:type="dcterms:W3CDTF">2003-04-23T23:53:51Z</dcterms:modified>
  <cp:revision>388</cp:revision>
  <dc:subject/>
  <dc:title>Sin título de diapositiva</dc:title>
</cp:coreProperties>
</file>